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C5521-3190-48EE-9E3E-EAEA72632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99127-8A57-4FED-AE75-EE0BFF192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39668-56E1-43E4-841A-6BAA66D93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327A7-B4CE-4555-82BE-4F9D5861D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64F25-42AB-4945-8E37-26B433601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E1064-B3B8-464A-B27D-31A05005E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52B09-575E-4879-A70A-A9BD32682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FD679-6622-42EF-A01B-F06BC0D02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5EADD-1F15-42A6-AC45-167510D73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26275-32FE-4876-9731-862356DF7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2DA79-A7AD-4051-B612-68A017B28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F5C2B-EB44-4B3B-8D3F-E5033A4C9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5D967-B7DF-447D-8B2E-B8A2F11105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Four Lense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almy Cedeño-Nayl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llie Jo Chiarel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ctoria Hartran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by Steinmey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lf Reflection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s there a lens that more of your Engaged Learner Qualities fit int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can you use the information from today in your build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nformation was brought to you from the Penn Literacy Network®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2742840"/>
            <a:ext cx="792468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ank you for cooper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ber Hea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666880" y="2362320"/>
            <a:ext cx="3429000" cy="27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ualities of an Engaged Learn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743200" y="2743200"/>
            <a:ext cx="2705040" cy="25336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828800" y="1828800"/>
            <a:ext cx="563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Post It Notes, list qualities you would find in an engaged learn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rd Splas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the list of words at your table to write three to five lines about lear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048120" y="3124080"/>
            <a:ext cx="3000240" cy="30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me to Re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ependently read the selection that is on your t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group complete what an engaged learner would look like or sound like using your specific lens. (can include does not look like and does not sound lik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657600" y="4800600"/>
            <a:ext cx="2286000" cy="18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are 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-427680" y="727200"/>
            <a:ext cx="9770400" cy="6456240"/>
            <a:chOff x="-427680" y="727200"/>
            <a:chExt cx="9770400" cy="6456240"/>
          </a:xfrm>
        </p:grpSpPr>
        <p:sp>
          <p:nvSpPr>
            <p:cNvPr id="56" name="_s7174"/>
            <p:cNvSpPr/>
            <p:nvPr/>
          </p:nvSpPr>
          <p:spPr>
            <a:xfrm>
              <a:off x="3146400" y="1645200"/>
              <a:ext cx="2624400" cy="2624040"/>
            </a:xfrm>
            <a:prstGeom prst="ellipse">
              <a:avLst/>
            </a:prstGeom>
            <a:solidFill>
              <a:srgbClr val="0399ff">
                <a:alpha val="50000"/>
              </a:srgbClr>
            </a:solidFill>
            <a:ln w="9360">
              <a:solidFill>
                <a:srgbClr val="4b59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_s7175"/>
            <p:cNvSpPr/>
            <p:nvPr/>
          </p:nvSpPr>
          <p:spPr>
            <a:xfrm>
              <a:off x="3301200" y="727200"/>
              <a:ext cx="2312640" cy="65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_s7181"/>
            <p:cNvSpPr/>
            <p:nvPr/>
          </p:nvSpPr>
          <p:spPr>
            <a:xfrm>
              <a:off x="4145760" y="2644200"/>
              <a:ext cx="2624400" cy="2624040"/>
            </a:xfrm>
            <a:prstGeom prst="ellipse">
              <a:avLst/>
            </a:prstGeom>
            <a:solidFill>
              <a:srgbClr val="f60802">
                <a:alpha val="50000"/>
              </a:srgbClr>
            </a:solidFill>
            <a:ln w="9360">
              <a:solidFill>
                <a:srgbClr val="f6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_s7182"/>
            <p:cNvSpPr/>
            <p:nvPr/>
          </p:nvSpPr>
          <p:spPr>
            <a:xfrm>
              <a:off x="7030080" y="3629160"/>
              <a:ext cx="2312640" cy="65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_s7176"/>
            <p:cNvSpPr/>
            <p:nvPr/>
          </p:nvSpPr>
          <p:spPr>
            <a:xfrm>
              <a:off x="3146400" y="3643560"/>
              <a:ext cx="2624400" cy="2624040"/>
            </a:xfrm>
            <a:prstGeom prst="ellipse">
              <a:avLst/>
            </a:prstGeom>
            <a:solidFill>
              <a:srgbClr val="f1fd09">
                <a:alpha val="50000"/>
              </a:srgbClr>
            </a:solidFill>
            <a:ln w="9360">
              <a:solidFill>
                <a:srgbClr val="f1fd0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_s7177"/>
            <p:cNvSpPr/>
            <p:nvPr/>
          </p:nvSpPr>
          <p:spPr>
            <a:xfrm>
              <a:off x="3301200" y="6527880"/>
              <a:ext cx="2312640" cy="65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_s7178"/>
            <p:cNvSpPr/>
            <p:nvPr/>
          </p:nvSpPr>
          <p:spPr>
            <a:xfrm>
              <a:off x="2146680" y="2644200"/>
              <a:ext cx="2624400" cy="2624040"/>
            </a:xfrm>
            <a:prstGeom prst="ellipse">
              <a:avLst/>
            </a:prstGeom>
            <a:solidFill>
              <a:srgbClr val="01bd0a">
                <a:alpha val="50000"/>
              </a:srgbClr>
            </a:solidFill>
            <a:ln w="9360">
              <a:solidFill>
                <a:srgbClr val="01bd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_s7179"/>
            <p:cNvSpPr/>
            <p:nvPr/>
          </p:nvSpPr>
          <p:spPr>
            <a:xfrm>
              <a:off x="-427680" y="3629160"/>
              <a:ext cx="2312640" cy="65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114800" y="365760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r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797280" y="1941480"/>
            <a:ext cx="124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aning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ent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120400" y="3693960"/>
            <a:ext cx="8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550480" y="3541680"/>
            <a:ext cx="126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nguage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873240" y="5522760"/>
            <a:ext cx="9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um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rt Post it Notes by Le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ce your Qualities of an engaged Learner on the Respective Looks Like/Sounds Like Cha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4572000" cy="304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l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day’s 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aning Cente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c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Ba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um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6629400" y="457200"/>
            <a:ext cx="112392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During Af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f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d Spla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r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igning qualities to ch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fl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9T18:55:42Z</dcterms:created>
  <dc:creator>chiarelb</dc:creator>
  <dc:description/>
  <dc:language>en-US</dc:language>
  <cp:lastModifiedBy>chiarelb</cp:lastModifiedBy>
  <dcterms:modified xsi:type="dcterms:W3CDTF">2011-12-06T18:32:59Z</dcterms:modified>
  <cp:revision>3</cp:revision>
  <dc:subject/>
  <dc:title>The Four Lenses </dc:title>
</cp:coreProperties>
</file>